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9286-8911-4187-B245-250612AD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7526-F3D8-4C0E-9FD2-9603F049F15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F360-8B26-4F8F-BF3F-359B7C913D5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7715-0C96-45E8-B5F3-AF65A6428AA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3376-3880-448E-A054-AE30DBA1CD3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BDFF-C60F-4032-A06E-13F14EE1F32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is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6757-BB17-4EDA-AB69-57FFD3081E9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FC1-9740-40B3-A42E-07CF90D9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AE7-87B2-41EF-BF66-5B3C4643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C97-1C27-47D5-AAF0-8388811B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923-A5D3-4A49-A7EC-0D1394AD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6F96-8C91-4889-B354-5FEE282D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CFAB-A2A8-4764-A943-1158D135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80C-4757-4801-8DE4-44F6BF73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0D7B-0BD4-418A-8F3F-CB7B8BA3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802-91D2-46E8-AD5C-453BE4BC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D58A-31F0-4A64-80B6-4FEA37B9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5F63-7B27-4A18-9C6D-30C13346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27A-1514-41BF-B51A-63AC44F5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6A44-BA10-4A6B-AA16-528A635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FB0A-24F6-4F1C-B54C-1987ECA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CC70-58F2-460F-AA75-5D02312D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9A3F-7E6C-4EC0-B896-E7C958F7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93DF-4F53-43D7-8E49-C2FF014C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231-8133-433A-BE25-98EC8B77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65B-2C6D-423D-ABAB-50602AE9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AEC-9362-479C-BCAD-1A04C889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AE4-6E5E-4105-8275-C7EBCAB9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7D1-9ABA-47A6-A811-FDFCBC73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154-7A7F-41BB-9CFE-A846519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6F3-61ED-4ECC-92B3-0C4FB86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72DD-85AD-4E01-ABE4-4F2594BE9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3708-5FE0-42FB-A382-E087CF2A8FCF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learnnc.org/lp/pages/2976" TargetMode="External"/><Relationship Id="rId6" Type="http://schemas.openxmlformats.org/officeDocument/2006/relationships/hyperlink" Target="http://www.learnnc.org/lp/pages/2976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rategy Instruction for Making Predictions and Making Connection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You Try Now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rite your Think-Aloud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k students to Notice &amp; Apply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will do more of this for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Book Activity 3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you can choos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redict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connect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aking Connec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Good readers actively relate ideas in print to their own knowledge, experiences, and other texts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Making connections helps readers to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late to characters with links to their own experienc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 particular 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elp pay attention and remember (store) main ideas for later recal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 to better make sense of or clarify the ideas from a reader’s own perspective (“So, is that like when…?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oblems with Teaching Connecting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connections may be irrelevan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connections may pull attention away from the main ideas of the new text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 need help understanding that connections are helpful for understanding new material (not just for sharing their own experiences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Teaching Goal: Help students mak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levan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connections in ways that help them to  better understand the current tex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types of connections can I make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xt-to-self connection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s reminds me of a time when I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xt-to-text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s book/character/event is a lot like/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ery different from ___ because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xt-to-world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 once heard about 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xt-to-author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s reminds me of how this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always 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6"/>
          <a:stretch/>
        </p:blipFill>
        <p:spPr>
          <a:xfrm>
            <a:off x="6629400" y="5143680"/>
            <a:ext cx="1525680" cy="72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7"/>
          <a:srcRect l="0" t="0" r="0" b="17922"/>
          <a:stretch/>
        </p:blipFill>
        <p:spPr>
          <a:xfrm>
            <a:off x="6477120" y="4114800"/>
            <a:ext cx="1676160" cy="754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8"/>
          <a:srcRect l="0" t="0" r="0" b="21126"/>
          <a:stretch/>
        </p:blipFill>
        <p:spPr>
          <a:xfrm>
            <a:off x="6400800" y="2133720"/>
            <a:ext cx="1711440" cy="68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9"/>
          <a:srcRect l="0" t="0" r="0" b="30521"/>
          <a:stretch/>
        </p:blipFill>
        <p:spPr>
          <a:xfrm>
            <a:off x="6934320" y="3276720"/>
            <a:ext cx="153324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can I make useful and relevant connection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 the Connecting Tally Sheet (p. 207) – but don’t get tied down to these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Connect to character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Connect to plo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Connect to the setting or pla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Connect to visualize, taste, feel, or hear the tex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Connect to predict or infer what will happen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. Connect to what I know about a topic or wor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7. Connect to help me feel emo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8. Connect to what I know about text structu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fter Modeling…Activities to Practice/Apply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back to the tally sheet of clues to use for predicting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itle…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nticipation Guid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. 86-see next slid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pic/Vocab…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redict-o-gram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ee next slide)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icky No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Ques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p. 88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review, Read, Ques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p. 88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/Genre…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ory map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; genre features (p. 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 what you’d find in types of expository texts: ABC books, magazines, newspapers, ads, brochures, invitations, menus…fairy tales (e.g., Cinderella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All ideas for your own lesson pla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ticipation Guide: </a:t>
            </a:r>
            <a:br>
              <a:rPr sz="44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uck Everlasting by Natalie Babbit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major themes – write several statements – students discuss &amp; react before reading and then revisit af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3510000"/>
          <a:ext cx="7543800" cy="2663640"/>
        </p:xfrm>
        <a:graphic>
          <a:graphicData uri="http://schemas.openxmlformats.org/drawingml/2006/table">
            <a:tbl>
              <a:tblPr/>
              <a:tblGrid>
                <a:gridCol w="914400"/>
                <a:gridCol w="1218960"/>
                <a:gridCol w="5410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t would be wonderful to live forever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should never do something that your parents have forbidden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should have the right to sell products even if they are harmful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me secrets are so important that it is acceptable to do anything in order to keep them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-o-gram: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ow Boy by Tara Yashim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aro Yashima use each vocabulary word? forlorn, interesting, trudging, imagine, graduation, attendance, admired, announced, charcoal, rejec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3581280"/>
          <a:ext cx="7086600" cy="256068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Where the story took plac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in the story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roblem or goal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th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ain character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lution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o the problem or </a:t>
                      </a: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ttainment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goal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ory Map/Genre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Use to predict story elements in Cinderella for example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7" name="Picture 5" descr="Picture 1.png"/>
          <p:cNvPicPr/>
          <p:nvPr/>
        </p:nvPicPr>
        <p:blipFill>
          <a:blip r:embed="rId1"/>
          <a:srcRect l="0" t="18892" r="0" b="0"/>
          <a:stretch/>
        </p:blipFill>
        <p:spPr>
          <a:xfrm>
            <a:off x="2209680" y="1981080"/>
            <a:ext cx="433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ctivities to practice/apply Making Connections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Use sticky-notes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to make connections while reading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Tally them up after and encourage students to expand the types of connections they make the next time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Connections Continuum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Generate a list of connections on sticky notes and ask students to sequence in order from most meaningful to least meaningful</a:t>
            </a: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(encourage students to remember this when they make their own connections)</a:t>
            </a: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Story Maps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Anticipation Guid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are and contras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ross a genre (e.g., fairy tale) or across several variants of one story (e.g., Cinderella)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Review key components of Metacognitive Framewor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Review important considerations for teaching students how to “predict” an “make connections” while read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Apply these strategies to your own reading of a text and practice modeling for students – in preparation for your book activ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Stor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xposi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background of characters &amp; sett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protagonist and antagonis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flic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he proble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ising A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building the ten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limax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h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urning poi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of the story (not most exiting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he problem is solv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alling A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ie up loose ends/provide closur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essage or lesson conveyed (not just a topic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879480" y="5562720"/>
            <a:ext cx="7800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o these play out in the traditional Cinderella stor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uesday, Oct. 11 – NO CLAS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tip: pretend Book Activity 3 due her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 Hancock Ch. 4: Modern Fantasy (elemen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y for quiz on Thursda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, Oct. 13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ook Activity #3: Strategy Script due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Finish reading Vacation Under the Volcano (will be on quiz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Quiz #1 (see wiki homepage link for quiz topics) – should take about 30 minut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 Strategy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? (name it and define it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important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do you use the strategy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useful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remember Explain &amp; Define; Notice and Apply from your textbook as the MODELING phase of strategy instruction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Why do good readers predict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gives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build internal tens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anticipate a satisfying en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prior knowledge &amp; new inform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dictions serve as guidepost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e monitor our predictions from time to time to see how they hold up (That’s what I thought! -- Wow, that’s not what I thought!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oblems with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predictions are often inaccurate, because of the text or the read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 underestimate the importance of text features in informational tex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ny children don’t take the time to predict properly and never revisit to solidify or revise their predict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Teaching Goal: Help students make predictions that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ccurat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eaningfu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 prediction is more than a guess – “an educated guess” perhap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two things do we need to make a good prediction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efine: What is a predic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62120" y="4572000"/>
            <a:ext cx="2590560" cy="459720"/>
          </a:xfrm>
          <a:prstGeom prst="rect">
            <a:avLst/>
          </a:prstGeom>
          <a:solidFill>
            <a:srgbClr val="ff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UES IN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343400" y="4419720"/>
            <a:ext cx="2590920" cy="825480"/>
          </a:xfrm>
          <a:prstGeom prst="rect">
            <a:avLst/>
          </a:prstGeom>
          <a:solidFill>
            <a:srgbClr val="ff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ACKGROUND KNOWLED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660840" y="44593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547040" y="4495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971800" y="5486400"/>
            <a:ext cx="2590920" cy="459720"/>
          </a:xfrm>
          <a:prstGeom prst="rect">
            <a:avLst/>
          </a:prstGeom>
          <a:solidFill>
            <a:srgbClr val="ff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lain: 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do good readers predic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 the Predicting Tally Sheet (p. 204) for CLUES IN THE TEXT but be careful about being too prescriptive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Title, headings, cover, pictures, ca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Ask ques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Knowledge of the topic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Knowledge about the author/genre/book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Text organization &amp; structu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. Past events in the tex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7. Meaningful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8. Knowledge of the charact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ODEL = Define… Explain…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Notice… Apply…Clarif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efine and Explai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is a prediction different than a guess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ood, so what I hear you saying is predicting i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Clues &amp; BK = Predict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ood readers make predictions using clues from … (THE TALLY SHEET). you’re going to think about what you used to make that prediction.  What clues in the text? What background knowledge in your head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del … Notice &amp; Apply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larif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um up at the end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inking Aloud in A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, let’s see how this all plays out in a real read-aloud/think-aloud -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Amos &amp; Bori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by William Stei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ook for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ples of me defining &amp; explaining how to predict and why predicting is use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ples of me “thinking aloud” to mod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ples of me asking you to “notice” how I predicted and how it was use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ples of me gradually inviting you to predict WITH me (but also offering support and clarificatio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6:07:11Z</dcterms:created>
  <dc:creator>Julie Coiro</dc:creator>
  <dc:description/>
  <dc:language>en-US</dc:language>
  <cp:lastModifiedBy>Julie Coiro</cp:lastModifiedBy>
  <dcterms:modified xsi:type="dcterms:W3CDTF">2010-10-06T20:17:46Z</dcterms:modified>
  <cp:revision>199</cp:revision>
  <dc:subject/>
  <dc:title>Metacognitive Strategy Instruction to Enhance Reading Comprehension</dc:title>
</cp:coreProperties>
</file>